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444F-43B0-44AA-BCA7-CB9981DE2B6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e made this tui logo. Blatantly.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B321-DCD9-4905-BC99-08B7DD66823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ttp://images.google.co.nz/imgres?imgurl=http://i.treehugger.com/images/2007/10/24/smoke%2520stack-jj-001.jpg&amp;imgrefurl=http://www.treehugger.com/2007/06/24-week/&amp;usg=__zIXSoR4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5A9-83BD-4FDE-99C2-A1DC4AD43AC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9D4-8206-4391-A75F-02AEF1AABBF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3C9-B30E-4C5F-91C1-468887AF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A48-017C-4F4E-8A3F-4BF9C3C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2B5-B19A-41C6-BC07-DDBAF246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6C8-B846-4A9D-BCCA-3EB1B7F3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0FB-BD3E-4383-BE24-548E1E5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1D5-24D4-46E4-A60F-A23379F1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0045-D543-4F3D-AA11-A732D4A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0079-38D7-42BF-9318-EC1C626F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3A7-BDBD-4AF1-A9AD-B66106F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A6F8-3AA1-4236-A07B-2C9F75E0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BF78-C3EE-4C67-B09E-828AA36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71A-7009-427F-A190-0C4C6180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4EF0-EEDB-4C97-91AC-3E79E8D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F2EE-69F9-47D1-84DA-764F2B3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4F4-899E-4790-AA9B-BFE6223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6F2-D67A-4394-8E8F-77247BB9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0F5D-3F1A-4698-8075-F42949B0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2AF0-3FB1-4B8A-93BA-A6B57401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9885-776D-4E03-A4BA-F99E65F1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056E-1ED5-454D-9B36-F35DA205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EB31-3C9F-4969-B0B3-0CC6F52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DEF6-28A4-4594-9829-ABB7250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674-103F-42B4-BF96-97DC5182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F1EB-5F35-45B6-B396-9C5D6055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AE77-270B-40A8-848B-3060BB0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DB6D-1652-4D1B-AFE3-969E45E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CAD8-5C51-4F52-BB52-8ACC2A5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685A-85C7-4EE4-BB03-DAB1EAD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F0C3-5A8A-4FF2-B697-AF35D6D1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FFEB-82D2-40BD-9662-A44217B9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BC2F-DFA5-4BBE-A2DA-55C3EB0F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9549-AB74-44FE-8B14-3994A39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7BD3-273A-4639-8189-67B76D1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A4C-152C-4AF8-B07F-A02205D2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68CF-AFB3-4465-9B25-D878670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631B-8DB7-4F1E-8C69-C44A2A4F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DD91-FAAF-4A6F-B8E1-8D33784D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09E8-87EA-47D6-B75D-EE2FDDC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2907-8FBF-421A-A89E-265F3E7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AF91-176E-4F6D-AD25-60C9F32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02B3-5E7E-499F-98BB-6B3C160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3D2B-DF53-4223-8B4D-37E8F1BF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1031-48A4-486E-9428-DA89ADDD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746D-F199-4E20-89C6-177EAFE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487-E44F-44FA-B830-C755FC1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1D1A-F2CC-4F41-BCFB-D6AE636F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78A4-2956-4CF2-A9FB-B7FFFAA1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2BE37-54EE-480B-934A-C4BF0BD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7F7F-20BE-469F-BD83-8CBEB78A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0B32-44C3-4C23-8D41-A5B2342E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61BD-4585-4840-89D1-879DB5D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4C80B-7E0A-4633-A174-D3EC01B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F02B-F31E-45B7-A62F-A877CD2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9AE2-B5AA-4208-81BE-44F7086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C39B-17E4-458A-9BE7-89D8104D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61A-A54A-4DB8-BBF5-84373CC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2F8E-EDF7-4E6E-AF25-0EFC09E5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7663-5080-49EB-8188-A91E47C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B9FC-4665-4AB3-B793-C4B2357C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0AEE-8E8A-4FE3-B013-3981D2C4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E71D-195C-4FB2-8411-EF3B1F9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68506-0CFB-45EB-8AC9-C26AF13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B145-8D81-45D8-9F5E-904C766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D2B6-6996-44F7-BC71-9D83577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98204-DB13-400E-BE4F-DB016CA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D029-C5FD-401F-B8BE-0522429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6FB-6840-4AB1-B4F9-7389A81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A6C0-AE23-4A01-B8D5-17A2A9F5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FA0F-1449-4D81-B121-E9EA3AFE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453CA-C71B-4B56-BB44-4283B08C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D2393-5519-44B8-B0EC-17728A1F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92449-FC91-49F4-87DE-7C0E285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0F4E-3579-4ADA-A754-BAF490F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A647-4A5D-457B-9F2D-F976C3A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4256-94FA-4E07-9FE9-B7CFF91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D134B-3BD8-4D7E-B145-83E1045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8266-E4C5-4ED5-B333-AD7151D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E6F-B7D6-465A-8EEF-6F4CEEC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7E9B-4215-40BD-95DC-D444C5B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E8B6-00C6-452A-903A-CFC4EB4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C785-76A0-439A-B943-35613648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A5A8-19CF-4588-AEF7-6648024D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FB39-9253-4A0C-80CA-96F6D84B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181-F894-4D92-9E8A-AF82C56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44E8-8AE8-4525-9518-8626195534AA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D54A-CF15-49DE-8893-7C9B355AEA4B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7C32-0F77-4525-A66E-BD0B1E6165A4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8959-4391-4EEE-A1B1-3DF02166EF8F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310E-0D5D-4353-B989-1A50F81CC2AE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4C6-67FD-48C3-BB59-87377C747529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1613-6C69-4A1A-9079-89CF64DD0F5F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kate.tekotago.ac.nz/~sequekm1/350/prototype%20game%20functions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26960" y="3949560"/>
            <a:ext cx="8064720" cy="1670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age:Tui.jpg"/>
          <p:cNvPicPr/>
          <p:nvPr/>
        </p:nvPicPr>
        <p:blipFill>
          <a:blip r:embed="rId2"/>
          <a:stretch/>
        </p:blipFill>
        <p:spPr>
          <a:xfrm>
            <a:off x="1714680" y="1071720"/>
            <a:ext cx="58100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ound Diagonal Corner Rectangle 15"/>
          <p:cNvSpPr/>
          <p:nvPr/>
        </p:nvSpPr>
        <p:spPr>
          <a:xfrm>
            <a:off x="214200" y="1643040"/>
            <a:ext cx="8715600" cy="52149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i.treehugger.com/images/2007/10/24/smoke%20stack-jj-001.jpg"/>
          <p:cNvPicPr/>
          <p:nvPr/>
        </p:nvPicPr>
        <p:blipFill>
          <a:blip r:embed="rId2"/>
          <a:stretch/>
        </p:blipFill>
        <p:spPr>
          <a:xfrm>
            <a:off x="642960" y="1857240"/>
            <a:ext cx="3052800" cy="214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IMG_1555.JPG"/>
          <p:cNvPicPr/>
          <p:nvPr/>
        </p:nvPicPr>
        <p:blipFill>
          <a:blip r:embed="rId3"/>
          <a:stretch/>
        </p:blipFill>
        <p:spPr>
          <a:xfrm>
            <a:off x="4929120" y="164304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4"/>
          <p:cNvSpPr/>
          <p:nvPr/>
        </p:nvSpPr>
        <p:spPr>
          <a:xfrm>
            <a:off x="6072120" y="22860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http://www.apexcamps.com/images/apexpictures035.jpg"/>
          <p:cNvPicPr/>
          <p:nvPr/>
        </p:nvPicPr>
        <p:blipFill>
          <a:blip r:embed="rId4"/>
          <a:stretch/>
        </p:blipFill>
        <p:spPr>
          <a:xfrm>
            <a:off x="642960" y="407196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http://www.350.org.nz/picture13.jpg"/>
          <p:cNvPicPr/>
          <p:nvPr/>
        </p:nvPicPr>
        <p:blipFill>
          <a:blip r:embed="rId5"/>
          <a:stretch/>
        </p:blipFill>
        <p:spPr>
          <a:xfrm>
            <a:off x="6929280" y="4572000"/>
            <a:ext cx="1500480" cy="2122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6"/>
          <a:stretch/>
        </p:blipFill>
        <p:spPr>
          <a:xfrm>
            <a:off x="2357280" y="5643720"/>
            <a:ext cx="4413240" cy="853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volunteers_holding_hands_around_ear.gif together we are better lg image by khilliker"/>
          <p:cNvPicPr/>
          <p:nvPr/>
        </p:nvPicPr>
        <p:blipFill>
          <a:blip r:embed="rId7"/>
          <a:stretch/>
        </p:blipFill>
        <p:spPr>
          <a:xfrm>
            <a:off x="2643120" y="178596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321" name="Title 1" descr=""/>
          <p:cNvPicPr/>
          <p:nvPr/>
        </p:nvPicPr>
        <p:blipFill>
          <a:blip r:embed="rId8"/>
          <a:stretch/>
        </p:blipFill>
        <p:spPr>
          <a:xfrm>
            <a:off x="4919760" y="1706400"/>
            <a:ext cx="3803400" cy="586080"/>
          </a:xfrm>
          <a:prstGeom prst="rect">
            <a:avLst/>
          </a:prstGeom>
          <a:ln w="0">
            <a:noFill/>
          </a:ln>
        </p:spPr>
      </p:pic>
      <p:pic>
        <p:nvPicPr>
          <p:cNvPr id="322" name="Title 1" descr=""/>
          <p:cNvPicPr/>
          <p:nvPr/>
        </p:nvPicPr>
        <p:blipFill>
          <a:blip r:embed="rId9"/>
          <a:stretch/>
        </p:blipFill>
        <p:spPr>
          <a:xfrm>
            <a:off x="360360" y="6278400"/>
            <a:ext cx="2004840" cy="586080"/>
          </a:xfrm>
          <a:prstGeom prst="rect">
            <a:avLst/>
          </a:prstGeom>
          <a:ln w="0">
            <a:noFill/>
          </a:ln>
        </p:spPr>
      </p:pic>
      <p:pic>
        <p:nvPicPr>
          <p:cNvPr id="323" name="Title 1" descr=""/>
          <p:cNvPicPr/>
          <p:nvPr/>
        </p:nvPicPr>
        <p:blipFill>
          <a:blip r:embed="rId10"/>
          <a:stretch/>
        </p:blipFill>
        <p:spPr>
          <a:xfrm>
            <a:off x="573120" y="1494000"/>
            <a:ext cx="2719440" cy="129852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11"/>
          <a:stretch/>
        </p:blipFill>
        <p:spPr>
          <a:xfrm>
            <a:off x="3144960" y="6138720"/>
            <a:ext cx="3431880" cy="993960"/>
          </a:xfrm>
          <a:prstGeom prst="rect">
            <a:avLst/>
          </a:prstGeom>
          <a:ln w="0">
            <a:noFill/>
          </a:ln>
        </p:spPr>
      </p:pic>
      <p:pic>
        <p:nvPicPr>
          <p:cNvPr id="325" name="Title 1" descr=""/>
          <p:cNvPicPr/>
          <p:nvPr/>
        </p:nvPicPr>
        <p:blipFill>
          <a:blip r:embed="rId12"/>
          <a:stretch/>
        </p:blipFill>
        <p:spPr>
          <a:xfrm>
            <a:off x="3505320" y="4925880"/>
            <a:ext cx="22190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ound Diagonal Corner Rectangle 9"/>
          <p:cNvSpPr/>
          <p:nvPr/>
        </p:nvSpPr>
        <p:spPr>
          <a:xfrm>
            <a:off x="214200" y="1643040"/>
            <a:ext cx="8715600" cy="5000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5072040" y="928800"/>
            <a:ext cx="3714840" cy="2786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9" name="Picture 3" descr=""/>
          <p:cNvPicPr/>
          <p:nvPr/>
        </p:nvPicPr>
        <p:blipFill>
          <a:blip r:embed="rId3"/>
          <a:srcRect l="0" t="13159" r="0" b="0"/>
          <a:stretch/>
        </p:blipFill>
        <p:spPr>
          <a:xfrm>
            <a:off x="5143680" y="4357800"/>
            <a:ext cx="3619440" cy="235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-500040" y="2214720"/>
            <a:ext cx="4776840" cy="3582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1" name="Right Arrow 6"/>
          <p:cNvSpPr/>
          <p:nvPr/>
        </p:nvSpPr>
        <p:spPr>
          <a:xfrm>
            <a:off x="3571920" y="235728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7"/>
          <p:cNvSpPr/>
          <p:nvPr/>
        </p:nvSpPr>
        <p:spPr>
          <a:xfrm>
            <a:off x="3929040" y="5214960"/>
            <a:ext cx="1643040" cy="571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5072040" y="4000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rbel"/>
              </a:rPr>
              <a:t>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 Diagonal Corner Rectangle 13"/>
          <p:cNvSpPr/>
          <p:nvPr/>
        </p:nvSpPr>
        <p:spPr>
          <a:xfrm>
            <a:off x="214200" y="1500120"/>
            <a:ext cx="8715600" cy="2714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5462640" y="1962000"/>
            <a:ext cx="2554200" cy="1335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549360" y="1566720"/>
            <a:ext cx="2900160" cy="4791240"/>
          </a:xfrm>
          <a:prstGeom prst="rect">
            <a:avLst/>
          </a:prstGeom>
          <a:ln w="0">
            <a:noFill/>
          </a:ln>
        </p:spPr>
      </p:pic>
      <p:sp>
        <p:nvSpPr>
          <p:cNvPr id="338" name="Right Arrow 5"/>
          <p:cNvSpPr/>
          <p:nvPr/>
        </p:nvSpPr>
        <p:spPr>
          <a:xfrm>
            <a:off x="3714840" y="2214720"/>
            <a:ext cx="1428840" cy="6429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4"/>
          <a:srcRect l="0" t="22628" r="42343" b="60015"/>
          <a:stretch/>
        </p:blipFill>
        <p:spPr>
          <a:xfrm>
            <a:off x="214200" y="4286160"/>
            <a:ext cx="5643720" cy="127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5"/>
          <a:srcRect l="0" t="20704" r="63186" b="59769"/>
          <a:stretch/>
        </p:blipFill>
        <p:spPr>
          <a:xfrm>
            <a:off x="1714680" y="5500800"/>
            <a:ext cx="2376360" cy="94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6"/>
          <a:srcRect l="0" t="22657" r="64651" b="56841"/>
          <a:stretch/>
        </p:blipFill>
        <p:spPr>
          <a:xfrm>
            <a:off x="4929120" y="5513400"/>
            <a:ext cx="3090960" cy="1344600"/>
          </a:xfrm>
          <a:prstGeom prst="rect">
            <a:avLst/>
          </a:prstGeom>
          <a:ln w="0">
            <a:noFill/>
          </a:ln>
        </p:spPr>
      </p:pic>
      <p:sp>
        <p:nvSpPr>
          <p:cNvPr id="342" name="Right Arrow 9"/>
          <p:cNvSpPr/>
          <p:nvPr/>
        </p:nvSpPr>
        <p:spPr>
          <a:xfrm rot="7595400">
            <a:off x="4839120" y="3810240"/>
            <a:ext cx="652680" cy="4636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Arrow 10"/>
          <p:cNvSpPr/>
          <p:nvPr/>
        </p:nvSpPr>
        <p:spPr>
          <a:xfrm rot="7595400">
            <a:off x="5292360" y="4249800"/>
            <a:ext cx="1602000" cy="642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11"/>
          <p:cNvSpPr/>
          <p:nvPr/>
        </p:nvSpPr>
        <p:spPr>
          <a:xfrm rot="7595400">
            <a:off x="6591600" y="4324680"/>
            <a:ext cx="1688760" cy="722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>
            <a:off x="1214280" y="6286680"/>
            <a:ext cx="3571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orbel"/>
              </a:rPr>
              <a:t>Note: Currently the colours are placeholders for images</a:t>
            </a:r>
            <a:r>
              <a:rPr b="0" lang="en-NZ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5143680" y="335772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rbel"/>
              </a:rPr>
              <a:t>Question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6"/>
          <p:cNvSpPr/>
          <p:nvPr/>
        </p:nvSpPr>
        <p:spPr>
          <a:xfrm>
            <a:off x="214200" y="1643040"/>
            <a:ext cx="8715600" cy="5000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3"/>
          <p:cNvSpPr/>
          <p:nvPr/>
        </p:nvSpPr>
        <p:spPr>
          <a:xfrm>
            <a:off x="428760" y="6000840"/>
            <a:ext cx="8358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kate.tekotago.ac.nz/~sequekm1/350/prototype%20game%20func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500040" y="55720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rbel"/>
              </a:rPr>
              <a:t>Link to current G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woringOnPaperPrototype.jpg"/>
          <p:cNvPicPr/>
          <p:nvPr/>
        </p:nvPicPr>
        <p:blipFill>
          <a:blip r:embed="rId3"/>
          <a:stretch/>
        </p:blipFill>
        <p:spPr>
          <a:xfrm>
            <a:off x="1714680" y="1857240"/>
            <a:ext cx="5532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16:49Z</dcterms:created>
  <dc:creator>Lisa Taylor</dc:creator>
  <dc:description/>
  <dc:language>en-US</dc:language>
  <cp:lastModifiedBy>taylolk2</cp:lastModifiedBy>
  <dcterms:modified xsi:type="dcterms:W3CDTF">2009-09-24T21:00:28Z</dcterms:modified>
  <cp:revision>35</cp:revision>
  <dc:subject/>
  <dc:title>350 YeahRight!</dc:title>
</cp:coreProperties>
</file>